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02-9EB0-4B11-8F1A-16670D5E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0A8-A07D-4797-B99F-A85860EC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A27-3F67-47AA-8151-E4C4F3B4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1D7-8D41-4FFA-BC83-DCFE6287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E47-373D-4605-AE13-62BF6D2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CD0-4575-442F-B5E5-E941E43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55F-D280-4FEE-8DE8-92EAB6D4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697-8A48-4ADA-A3E5-199B325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FAA-2487-4A9E-B442-C73F3FE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229-8AC2-4B90-83B8-249B25B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437-ACC9-4CFF-A6D8-710CA31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ED8-7EED-4309-92EF-F93C1CD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880E-AD88-494F-A6FF-3B0FF1F861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C5C-894C-4EBB-AAEC-26130EF02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ffi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mon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igopu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sh S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ceteris paribus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else held 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’t evaluate changes in economy when looking at multipl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ize the law of supp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supply cur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a producer you want to sell more when the price is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difference between a subsidy and an excise ta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0739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bsidies are gov’t payments to lower the price…we buy m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cise taxes are meant to raise the price…we buy l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ost expensive cost of production for most busines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are fixed and variable costs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on exampl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8280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xed costs, like capital, can be bought once and reused…pit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riable costs, like land and labor, need to be bought each time…like lem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ize the Law of Dem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&amp; label a demand cur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arginal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RA or ONE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do you find happiness?  Draw it on the boa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more unhappy whenever the market price is set too high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ducer is unhappy because of the excess supply.  They have a surplus of their product, which means they are losing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3482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ould the government use a price cei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an example of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79784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ceilings used to keep prices down so we can afford to buy the INELASTIC things we have 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ceiling on milk or 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question do you ask yourself to determine which curve will shi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it affect the cost of producing the produ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a consumer, you buy more when the price is 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price of milk goes up, what will happen to the cost of buying cere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125064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k and cereal are complements…if the price of milk goes up, we buy less milk.  Buying less milk results in less demand for buying cereal.  A decrease in demand shifts the curve to the left, reducing price and quant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market power.  As a producer do you wan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179640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et Power is the ability to change pr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s, you want it because market power is what allows you to make a pro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e price fixing with price w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consumers, which do we pref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5249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fixing involves agreeing to keep prices high while price wars involve fighting to have the lower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consumers we like to see price w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e PC, MC, O, &amp; M in terms of their market po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running least to great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ill most limit how much money you can make as a busi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mber of competitors…that’s why market power is so cri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want to buy more of something, which way does the demand curve shi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can producers use price discrimination to make more mon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974880"/>
            <a:ext cx="624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charging people based on what they are willing to pay they can make more money.  If someone will pay $1.00 for a candy bar let them.  If someone else would pay $2.00 then charge them 2.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ke more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2416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long can cockroaches live after their heads have been cut off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 minu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 h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 day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 m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 d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5267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trees does it take to print the Sunday edition of the New York Tim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3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9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43,000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95280" y="155376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liquid (in weight) can the average disposable diaper h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 ou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5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52208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hamburgers has McDonald’s sold since op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5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300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35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00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ve the Mac…over 100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the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founded economics?  What book did he write?  What year was it publish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15249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elasticity of demand.  Give one example of an inelastic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the producer do you want to raise or lower the price on an inelastic g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974880"/>
            <a:ext cx="624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asticity measures how we react to a change in pr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 things, INELASTIC, we always have to buy so quantity is basically constant.  Other things we will stop bu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lastic we have to buy so you want to raise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ne substitute and one complement for a hambur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bstitute--piz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ement--milksh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ewisburg Area School District</cp:lastModifiedBy>
  <dcterms:modified xsi:type="dcterms:W3CDTF">2008-03-24T01:35:49Z</dcterms:modified>
  <cp:revision>35</cp:revision>
  <dc:subject/>
  <dc:title>Blank Jeopardy</dc:title>
</cp:coreProperties>
</file>